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A61-C157-41C9-B413-DDFFF86D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5C2-131F-43AC-A064-AED3C621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5BC-1500-467D-92E0-7C06F864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1D6-CE04-4362-9D8C-8B3DF106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C35-298D-4857-8B8C-80D39ACA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B4CB-55E9-4D7F-B3E7-3CAF9229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6211-1547-4A53-A923-921259D2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2980-9667-4132-984F-B8325A16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72E1-C5D5-4554-9861-BC0A1414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B0A-1666-480F-BB1E-813418F9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E13A-5527-4760-849C-BD798137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354-2459-40E7-A349-934D9F36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175F-78CF-40BE-B18B-FCFA3F0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C7F7-D406-4257-B625-0664E6E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355-052A-401F-90A9-937E814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1FA-EE16-47B5-9B7B-8C52BB8F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CAF9-8CF3-4339-B481-C76E7446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7D6-0C5D-450A-965E-98088AB5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E86-6BCB-4A44-A7B5-F98C510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726-AC95-4695-AB1C-43B593D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F89-86E7-4CC0-B620-5767C61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417-8F33-477F-AE9C-5A247B50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178-41E1-4730-8158-4949582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8CB-0854-423E-8BD6-9ABE206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325-B01F-44CB-A265-782E06DDC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3499-786C-44E1-A7F5-14B8D9117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4647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Ciencias Físicas y Matemá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Ingeniería Eléctr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590920"/>
            <a:ext cx="5715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forme final de Seminario de Diseño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ÜFKE: La joyita renov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962520"/>
            <a:ext cx="335268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ntes: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J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rge Lemu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Javier Moy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ebastián Oliv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blo Sa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fesor: Rodrigo P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echa : 3 de octubre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o-ing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28400" y="22096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09588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449568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267080"/>
            <a:ext cx="6098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65760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984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Tempera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44197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Vol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9532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SobreAmpe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1720" y="2133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990720" cy="87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06480" y="29718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diante archivos de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41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5200" y="2133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76720" y="2376360"/>
          <a:ext cx="5310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76360"/>
                    <a:ext cx="5310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19520" y="3657600"/>
            <a:ext cx="27432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080" y="4495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ipador de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99" name="excel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562440" cy="4124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21337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álculo de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Dificulta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8880" y="2743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2520" y="3581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acio en el laboratorio de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8680" y="445284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ocimientos sobr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7440" y="5257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ibilidad del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19520" cy="159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000" y="601992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e último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Conclusi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0" y="2471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urante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4572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ación auto eléctrico-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9080" y="533412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ficiencia del 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lograron objetiv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733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clusión sobre algun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9144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otiv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90512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losión demográfica e incremento de la adquisición de automó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gases tóxicos en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6320" y="28954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ruido en la ciu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3880" y="9144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Reseña histór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948680" y="26668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cocia 1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240" y="34290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reras de autos 1889 y 18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9880" y="41911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arrollo en los últimos 2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962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un sistema de monitoreo eficiente para el au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971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 GENER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00320" y="22096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S ESPECÍFIC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743200"/>
            <a:ext cx="7848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jorar las falencias que tiene el conversor digital y el amplificador operacional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corporar al auto eléctrico los elementos de monitoreo que aún no se han instal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contrar la posición adecuada del Laptop dentro del auto eléctrico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ñadir o quitar elementos de la interfaz de 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r un sistema de registro de las mediciones tomadas en cada viaje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uscar la mejor manera de advertir al usuario los proble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lucionar el problema de la ventilación del controlador del auto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ar detalladamente todo el desarrollo, es decir, disponer de un manual de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9907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ateri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112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733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rsor análog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160" y="43434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mplificad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4080" y="49528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b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4800" y="54864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ns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propuest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2480" y="56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240" y="21337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3:27Z</dcterms:created>
  <dc:creator>auto</dc:creator>
  <dc:description/>
  <dc:language>en-US</dc:language>
  <cp:lastModifiedBy>auto</cp:lastModifiedBy>
  <dcterms:modified xsi:type="dcterms:W3CDTF">2003-12-01T13:26:52Z</dcterms:modified>
  <cp:revision>12</cp:revision>
  <dc:subject/>
  <dc:title>Presentación de PowerPoint</dc:title>
</cp:coreProperties>
</file>